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BA46-9E17-4B01-B959-173DCB664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7FF4-62F9-4F13-96D1-DA6AA6A2A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F50-E92F-43A6-955B-75328A4F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D9F-1752-4D90-BEC2-241C3E0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358-A1AF-449D-8709-23FEB765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26A-41F1-41D3-A9BF-4191380B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947-257E-409F-975D-93B6C0A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B2C-1B12-4E10-BDF9-985893CC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BAD-F909-444C-A735-CF7B363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D14-A224-49D6-A113-D1B94E9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FEC-E898-4B0D-A2E1-F5EF8F7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DF8-D5F7-4A0D-84AE-A32CBFA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C88-2102-48B6-A29B-521304A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375-0C11-4A34-95CC-3A510E5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F4B1-DF39-4E18-A2CB-1EE8D53C6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брињавање пацијената са схизофрениј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нвулзиви као стабилизатори располож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лпро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бамазепин и окскарбамазеп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мотри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бапен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ирам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цијални агонисти допаминергичких рецеп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ипипраз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исулпри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0102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СПЕКТАР БИПОЛАРНЕ СИМПТОМАТ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590920" cy="26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Roman YU"/>
              </a:rPr>
              <a:t>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Roman Y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Еуф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деја велич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мпулсив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Пораст либ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Не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потреба за спав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2412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Анксиоз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ритаб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Хост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Виолентно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514600" y="2438280"/>
            <a:ext cx="1143000" cy="45720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 flipH="1">
            <a:off x="5486400" y="2438280"/>
            <a:ext cx="838080" cy="53352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V="1">
            <a:off x="3048120" y="4266720"/>
            <a:ext cx="1066680" cy="83844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 flipV="1">
            <a:off x="5257800" y="4419360"/>
            <a:ext cx="990720" cy="60948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505320" y="144792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Roman YU"/>
              </a:rPr>
              <a:t>Манична, депресивна или мешов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295280" y="472176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ПСИХ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умануте иде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Халуц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ензорна хиперактив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324480" y="3654720"/>
            <a:ext cx="2667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КОГН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Бекство ми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истрактибил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лаб у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езорган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Кон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3581280" y="325764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Times New Roman"/>
              </a:rPr>
              <a:t>Епизод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916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захт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518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Различите хемијске, фармаколошке и биохемијске особине од трициклик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инхибицију моноаминооксидазе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MAO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симпатомиметског ефек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анти-холинергичких дејстав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кардио-васкуларни систе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15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9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лективни инхибитори поновног преузим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 и допам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D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NARI (NRI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и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SN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цијални агонист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H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SPA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и појединих рецеп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ергички и специфични серотонергички антидепреси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SSA)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HT2A i 2C, 5-HT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блокаду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alfa – 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-HT2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инхибицију поновног преузимања серотон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SAR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атонергички 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600200"/>
          <a:ext cx="8229600" cy="283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ва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ија моно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ва или друга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ћа линија моно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амазе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мотриг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бапент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ирамат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а 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или Литиј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ска “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ult Weapo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 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ролептична “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ar Weapo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ролеп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3"/>
          <p:cNvSpPr/>
          <p:nvPr/>
        </p:nvSpPr>
        <p:spPr>
          <a:xfrm>
            <a:off x="4714920" y="333360"/>
            <a:ext cx="372276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ne docet qui bene distinqui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ve ipsius conscietiae pond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1600200"/>
          <a:ext cx="8229600" cy="201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е стабилизатора расположе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или више стабилизатора расположе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е са антидепресив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изатори расположења или 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депресив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3"/>
          <p:cNvSpPr/>
          <p:nvPr/>
        </p:nvSpPr>
        <p:spPr>
          <a:xfrm>
            <a:off x="4714920" y="333360"/>
            <a:ext cx="372276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Добро учи онај који добро разликује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Тежак је терет сопствене са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ипологија схизофрених поремећ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зи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фек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гни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а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грес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28760" y="64296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зи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контролис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психотик + бензодиазепин (халоперидол + лоразепам парентерал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омплијантни пацијен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 препа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ични антипсихотици; клозап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фармација; комбинације (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os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8760" y="64296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фек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 биполарног афективног поремећа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изатор расположењ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иц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 схизофреније и других псих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 препа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о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преузимања серотонина + 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00040" y="1785960"/>
          <a:ext cx="8229600" cy="192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гни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холинестеразе (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zheimer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8760" y="642960"/>
          <a:ext cx="8229600" cy="2651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га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перид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ан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ети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прасид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00040" y="142884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грес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контролис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психотик + бензодиазепин (халоперидол + лоразепам парентерал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ични антипсихотици; кло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8-19T06:36:0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